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371-B851-42D4-82A3-53C43FE8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7F7-6EE5-4773-9997-4CCE6E6D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912-BE3D-40E2-989A-347CF729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527-0F83-4502-935C-504026A0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AF8-3FA3-4988-9001-5275DAB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573-AF79-42A4-8746-F1B67192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1D1-75C2-4F7C-B7F5-D930F46E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778-A435-43BF-9EEC-19E2D2E7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BC4-16E1-45CA-8906-30943550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E67-9BAB-46A6-A385-A2D07EA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8A6-9163-4102-9C89-6DDEA5A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AF4-95D1-4D9B-8CA8-2D04642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90AE-8BF0-4D86-916A-F9B43E6F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2133720"/>
          <a:ext cx="128916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128916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410080" y="2286000"/>
          <a:ext cx="139716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86000"/>
                    <a:ext cx="139716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6320" y="6659640"/>
          <a:ext cx="1288800" cy="23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6659640"/>
                    <a:ext cx="1288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384880" y="6750000"/>
          <a:ext cx="1396800" cy="226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84880" y="6750000"/>
                    <a:ext cx="139680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46:24Z</dcterms:created>
  <dc:creator>Dina Winterton</dc:creator>
  <dc:description/>
  <dc:language>en-US</dc:language>
  <cp:lastModifiedBy>Dina Winterton</cp:lastModifiedBy>
  <dcterms:modified xsi:type="dcterms:W3CDTF">2009-04-13T18:17:47Z</dcterms:modified>
  <cp:revision>4</cp:revision>
  <dc:subject/>
  <dc:title>Slide 1</dc:title>
</cp:coreProperties>
</file>